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341A4-834E-4F2E-AAC1-25302D6D245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25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BB1C7-6243-4BBC-A749-E13AA431747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8E818-7367-4370-A191-CA5839311E5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11378-BAE1-4F76-885C-55944C7C737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496B4-F8CE-4786-BE7B-917AA1136D3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DB104-1C89-4BEC-B9BE-39E9D17E9EE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2D9E8-5C7B-4E05-A599-F06C5D60587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AA0ED-5C51-4581-9596-B6CE928417E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3EF19-5DB2-45F0-8B85-2D683BAFCBC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35D9D-2ECD-49C8-9A8A-864431FB213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BA9BC-DFCC-4B93-9636-7CDA93EE130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348-644C-4DD1-BE3D-5FFBAED4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615-837C-41E7-8CCE-B8F19F38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964-7E7E-4D6A-8E02-02747916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4A8-41EC-495F-AC3E-59C75A80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D92-3ED4-4602-BD19-A8EC31FA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B87-17EE-45BE-BEB5-EC70C233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B88-47BA-40D7-BD2E-E25F144D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D3E-CD66-482D-A836-83780778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20F-A932-4E36-900C-56F59C55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DAE-9456-41FD-B322-E01918BB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4B7-CEF8-43FA-9F7A-1BDA73FE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CB8-860F-4FE5-B068-1E277980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DB1D3C-AC16-44CD-BC6D-19ECDC375C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23T10:01:37Z</dcterms:modified>
  <cp:revision>97</cp:revision>
  <dc:subject/>
  <dc:title>Snímek 1</dc:title>
</cp:coreProperties>
</file>